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0894-12F0-43B6-A2C3-D78A1C0EA1D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ACFB-5EDF-43CA-B1D9-98635DCEEDD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F4137-83D0-4A74-946A-921CF947CAF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715D-0059-48D2-8BF1-4F04AA01496E}"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A419-D31C-4A74-A295-B4214764C6D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5CAC-EE2D-4610-B7BD-9B9665726AD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3900-263B-481E-813E-FD1923FDE38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E01E-2B6D-4D4F-A70E-722CC33A0E73}"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3242-91ED-4636-B35D-CF85C8D10EB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7532-57D0-4A2F-9113-ED3AEA0750B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D9AA-62C1-4030-8EEF-3330B890A9A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F9D2-2E49-4A64-827E-B9156D715E3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D805-6110-42E1-84D6-28349ED0E33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C970-2130-406D-A981-BFF141C7E9C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EDF7-04CB-4139-AADE-CA1BF55DFA7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E1C5-1F54-4C5A-BA55-20E297FE203A}"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A6BF-F765-4C8D-B952-5B1AE096564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3E81-0742-4618-B2BB-A5E63B7298E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9537-FC8D-4164-82EE-DA02E18D454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648D-C8DF-40F1-BA2C-5008600ED50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7857-3533-4586-B626-1DDBC31398A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815F-DACA-4514-8A09-485762B6575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72CD-3485-4059-AC71-A39DAE3A1E4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6663-A07C-4B64-9EB4-04B70F7C4BF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3816-2D8C-4025-8101-48044032253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9D145-7AD8-42C0-A483-DED8AF39B1D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7420-570E-46DF-95E8-0E8BF536C4E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D2FA-7A63-4666-B1D2-240D1E43377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F88C-79FD-4F64-A9DE-EB2F1A669A9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9CF5-DB72-420B-835E-CE1E36CD520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88D8-41F2-4734-AA49-7D14B634ED4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F244-AEB4-4A47-9444-47AB9DAB765E}"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CC99-A1ED-44B7-A255-5F3281C7BA4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D7DEA-F48F-4469-AAD2-A13E79C1C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F8176-721D-4444-B30F-99F137DF2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F1B86-E3F1-47F5-B473-B0AC0818E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315BE-5EAF-4B12-9E10-BE7455CA6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81870-BD4A-444E-B945-A16A12664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CA2FB-0A5C-4DCF-BE57-0CFE52AE5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903D2-FFAE-4F1F-BF28-7837D3A6E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0B527-5F29-4A2E-81BC-52283F6E3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335C5-57B3-462A-8144-9EE0CDDDC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DBA88-2EA3-4CE9-8100-467A7432B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3296A-788E-439F-8D47-CC025F244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44CFF-EA5F-4C81-887D-873F9D51B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9A82-C7D1-49DB-AFAC-1F02479806CE}"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13880"/>
            <a:ext cx="7772400" cy="288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MODELLO DI ORGANIZZAZIONE DEL LAVORO NELL’ AMMINISTRAZIONE DIGITAL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898989"/>
                </a:solidFill>
                <a:latin typeface="Calibri"/>
              </a:rPr>
              <a:t>Relatore: prof. Donato A. Limone, ordinario di informatica giuridica e docente di scienza dell’amministrazione,Università Telematica Telma,Roma</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898989"/>
                </a:solidFill>
                <a:latin typeface="Calibri"/>
              </a:rPr>
              <a:t>Assotuscania, Tuscania 26.2.2010</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Un regolamento per una amministrazione…per il cittadino</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inalità dell’en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sistema document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sistema procediment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comunicazione istituzion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protezione dei dati personal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mministrazione digit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organizzazione delle strutture amministrativ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e risorse uma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dirigenz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piano di formazio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valutazione delle risorse uma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risorse finanziari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 norme di riferimento</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gge 241/9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gge 150/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lgs 267/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lgs 165/2001</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lgs 196/2003</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lgs 82/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gge 69/2009</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lgs 150/20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sistema documentale</a:t>
            </a:r>
            <a:endParaRPr b="0" lang="en-US" sz="4400" spc="-1" strike="noStrike">
              <a:solidFill>
                <a:srgbClr val="000000"/>
              </a:solidFill>
              <a:latin typeface="Calibri"/>
            </a:endParaRPr>
          </a:p>
        </p:txBody>
      </p:sp>
      <p:sp>
        <p:nvSpPr>
          <p:cNvPr id="71" name=""/>
          <p:cNvSpPr txBox="1"/>
          <p:nvPr/>
        </p:nvSpPr>
        <p:spPr>
          <a:xfrm>
            <a:off x="457200" y="999720"/>
            <a:ext cx="8229600" cy="512604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sistema documentale è digitale (oggi:il sistema documentale è di carta)</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documento di carta viene “trasformato” in digitale (art.22 e 23 del Codice Amministrazione digitale e deliberazione 11/2004 Cnipa) quando entra nel sistema del protocollo informatico (Dpcm 31.10.2000)</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documento digitale resta tale (digitale)</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rchivio comunale è digitale (art. 22 e 23;art. 40 e ss CAD)</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 dati ed i fascicoli sono digitali (art. 40 e ss. del CAD)</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ccesso ai dati e ai documenti avviene in rete</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dirigente  o il responsabile del servizio è responsabile della documentazione, del suo formato, della sua pubblicazione sul sito dell’ente o della sua protocollazionedlgs 165/2001)</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ecessità di un minimo di regole per la documentazione amministrativa digita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I requisiti dei dati digitali(art. 50 e ss del CAD)</a:t>
            </a:r>
            <a:endParaRPr b="0" lang="en-US" sz="40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Disponibil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Accessibil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Fruibil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Riutilizzabil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Sicur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omplet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Aggiornat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Validat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Pubblici sul sit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Il dirigente o l’apicale è responsabile dei requisiti</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Il sistema procedimentale: il cuore dell’amministrazione……</a:t>
            </a:r>
            <a:endParaRPr b="0" lang="en-US" sz="40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l procedimento amministrativo viene avviato su richiesta di un cittadino o di un ufficio</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l procedimento è composto di fasi, di documenti, di atti final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Chi definisce le fasi, i tempi, la modulistica, ecc.:il dirigente o l’apical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l procedimento è digita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l fascicolo è digita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l procedimento viene prima semplificato e poi digitalizza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sistema procedimental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l procedimento ha una durata certa: entro il mese di luglio 2010 le amministrazioni devono pubblicare i procedimenti con i tempi razionalizzati e ridotti (art.7 della legge 69/2009)</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e non c’è una indicazione della durata allora questa corrisponde a 30 giorn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indicazione  della durata è obbligatoria e segue il principio della semplificazione e della economicità</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istruttoria della pratica…..</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Un procedimento segue una istruttoria che deve essere resa pubblica sul sito (art.54 del CA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Per ciascun procedimento è necessario indicare il responsabile, la durata, l’iter, la modulistica necessaria (legge 241/9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Per ciascun procedimento è necessario inserire nel sito il testo della normativa di riferimento (legge, regolamento, deliberazioni, ecc.) art. 54 CAD e art. 32 legge 69/2009)</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Le determinazioni sono rese pubbliche sul sito nel rispetto della tutela dei dati personali (art. 54 CAD e legge 69/2009,art.32)</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comunicazione istituzionale: legge 150/2000</a:t>
            </a: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Il modello di organizzazione del lavoro deve garantire la comunicazione verso l’esterno e tra gli uffic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Il sito costituisce albo pretorio in ret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omunicazione istituzionale sull’operato degli Organ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omunicazione sull’attività amminist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omunicazione agli interessati sulle pratiche di loro pertinenz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Il piano di comunicazione:responsabile il dirigente o l’apica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protezione dei dati personali</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l sistema documentale e dei dati pubblici deve considerare il trattamento dei dati personali (dlgs 196/2003)</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l trattamento dei dati personali deve rispettare il principio di necessità (art.3)</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ati trattati da soggetto pubblici (art. 18)</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ati sensibili (art. 20)</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icurezza (art. 31 e s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l trattamento dei dati personali come “criterio” di organizzazione (art. 176, comma 2)</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mministrazione digitale</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documento informatico è valido giuridicamen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firma digitale sostituisce a tutti gli effetti la firma autograf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conservazione informatica dei documenti è valida a tutti gli effett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corrispondenza elettronica ha valore leg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dati georeferenziati hanno valore leg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protocollo informatico da valore legale al documento che entra a far parte del sistema documentale dell’en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Non bisogna inviare la documentazione cartacea dopo quella digitale in sostituzione di qu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cittadino presenta le proprie istanze in rete con valore leg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sistema procedimentale è digitale ed è valido a tutti gli effetti di leg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A cosa serve una amministrazione pubblica</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A garantire e sostenere il diritto dei cittadini per una burocrazia efficiente/efficace a supporto di un’azione amministrativa di qualità, veloce, trasparente, imparziale, economica, valida legalmen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Certamente una pubblica amministrazione non puo’ avere come scopo quello di vessare il cittadino o di avere rispetto solo per la forma di un atto e non anche per la sostanza effettuale e per i costi dell’azione amministrativ 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Il modello organizzativo della struttura amministrativa</a:t>
            </a: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regolamento deve riportare la definizione delle strutture organizzative con le relative funzion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 risorse uman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rogrammazione e gestione delle risorse uma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allocazione delle risorse rispetto al PEG ed ai serviz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profili professiona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curricula dei dipendent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formazi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piano di form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dirigenza</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compiti previsti dalla legge e dal contrat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mpiti e  responsabilità del sistema dei dati e del sistema document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mpiti e  responsabilità del sistema procedimentale (tempi, fasi, qualità, ec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mpiti e  responsabilità della qualità dell’azione amministrativ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mpiti e  responsabilità della programmazione, della gestione, della valutazione e della formazione delle risorse uma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mpiti e responsabilità dell’amministrazione digitale (del sito per i dati di propria pertinenz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mpiti e responsabilità nel trattamento dei dati personal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mpiti e responsabilità delle risorse finanziarie di riferimen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mpiti e responsabilità della valutazione della soddisfazione dell’utenz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sistema di valutazione</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l dlgs 150/2009</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l piano triennale degli obiettivi (art.5)</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l piano di trasparenza (art.11)</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l ciclo di gestione della performance (art.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istema di misurazione e di valutazione della performance (art. 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Valutazione della performance di gruppo ed individuale (art. 8)</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iano della performance (art. 10)</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piano di formazione</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bisogni formativ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moduli formativ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profilo della docenz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formazione di ba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formazione specialist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valutazione  della efficacia della formazi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Gli strumenti per la formazi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cost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 risorse finanziarie</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rincipi per la programmazione e la gestione delle risorse finanzia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PEG definito nelle sue articolazioni non solo formali ma gestionali ed esecutiv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bilancio sociale:per far comprendere in modo chiaro e semplice come sono state utilizzate le risorse finanziar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Diritti Cittadino – Doveri dirigenza e pubblici dipendenti</a:t>
            </a:r>
            <a:endParaRPr b="0" lang="en-US" sz="4000" spc="-1" strike="noStrike">
              <a:solidFill>
                <a:srgbClr val="000000"/>
              </a:solidFill>
              <a:latin typeface="Calibri"/>
            </a:endParaRPr>
          </a:p>
        </p:txBody>
      </p:sp>
      <p:sp>
        <p:nvSpPr>
          <p:cNvPr id="99"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iritto ad una burocrazia moderna e di qualità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iritto ad una amministrazione digitale (art.3 CA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Presentazione istanze tramite PEC (art.16bis,comma 5,legge 2/2009)</a:t>
            </a:r>
            <a:endParaRPr b="0" lang="en-US" sz="2600" spc="-1" strike="noStrike">
              <a:solidFill>
                <a:srgbClr val="000000"/>
              </a:solidFill>
              <a:latin typeface="Calibri"/>
            </a:endParaRPr>
          </a:p>
        </p:txBody>
      </p:sp>
      <p:sp>
        <p:nvSpPr>
          <p:cNvPr id="10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Attuazione “reale” della legge 241/90</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Attuazione del Codice dell’Amministrazione Digitale (CAD) dlgs 82/2005</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Pubblicazione sul sito dell’indirizzo di una PEC(art.54 CA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Diritti                    Doveri</a:t>
            </a:r>
            <a:endParaRPr b="0" lang="en-US" sz="4400" spc="-1" strike="noStrike">
              <a:solidFill>
                <a:srgbClr val="000000"/>
              </a:solidFill>
              <a:latin typeface="Calibri"/>
            </a:endParaRPr>
          </a:p>
        </p:txBody>
      </p:sp>
      <p:sp>
        <p:nvSpPr>
          <p:cNvPr id="10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Presentazione istanze al protocollo  informatic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Il sito deve riportare tutti i dati sulla struttura, i procedimenti, i dirigenti, i dipendenti, le funzioni, le norme, ecc. (art. 1 della legge 150/2000)</a:t>
            </a:r>
            <a:endParaRPr b="0" lang="en-US" sz="2600" spc="-1" strike="noStrike">
              <a:solidFill>
                <a:srgbClr val="000000"/>
              </a:solidFill>
              <a:latin typeface="Calibri"/>
            </a:endParaRPr>
          </a:p>
        </p:txBody>
      </p:sp>
      <p:sp>
        <p:nvSpPr>
          <p:cNvPr id="103"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Protocollo informatico comprensivo di archiviazione digitale (Dpr 445/2000; DPCM 31.10.2000)</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Attuazione dell’art. 54 del CAD (contenuti dei siti) e art. 32 della legge 69/2009 (pubblicità legale dei dati sui siti)</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Diritti                       Doveri</a:t>
            </a:r>
            <a:endParaRPr b="0" lang="en-US" sz="4400" spc="-1" strike="noStrike">
              <a:solidFill>
                <a:srgbClr val="000000"/>
              </a:solidFill>
              <a:latin typeface="Calibri"/>
            </a:endParaRPr>
          </a:p>
        </p:txBody>
      </p:sp>
      <p:sp>
        <p:nvSpPr>
          <p:cNvPr id="105"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Il procedimento amministrativo deve avere una durata certa (art.  2  della legge 241/90)</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Il procedimento ha un responsabile art. 5    Legge 241/90 </a:t>
            </a:r>
            <a:endParaRPr b="0" lang="en-US" sz="2600" spc="-1" strike="noStrike">
              <a:solidFill>
                <a:srgbClr val="000000"/>
              </a:solidFill>
              <a:latin typeface="Calibri"/>
            </a:endParaRPr>
          </a:p>
        </p:txBody>
      </p:sp>
      <p:sp>
        <p:nvSpPr>
          <p:cNvPr id="106"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La durata dei procedimenti deve essere definita sulla base di criteri oggettivi e funzionali (art. 7 della legge 69/2009)</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Pubblicazione sul sito dell’elenco dei procedimenti con i relativi responsabili(art. 54 del CA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Diritti                       Doveri</a:t>
            </a:r>
            <a:endParaRPr b="0" lang="en-US" sz="4400" spc="-1" strike="noStrike">
              <a:solidFill>
                <a:srgbClr val="000000"/>
              </a:solidFill>
              <a:latin typeface="Calibri"/>
            </a:endParaRPr>
          </a:p>
        </p:txBody>
      </p:sp>
      <p:sp>
        <p:nvSpPr>
          <p:cNvPr id="108"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procedimento deve essere snello (art. 1, comma 2 legge 241/90)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cittadino deve conoscere l’iter dei procedimenti (art. 2 della legge 241/90)</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cittadino deve conoscere le fonti normative per ogni singolo procedimento</a:t>
            </a:r>
            <a:endParaRPr b="0" lang="en-US" sz="2400" spc="-1" strike="noStrike">
              <a:solidFill>
                <a:srgbClr val="000000"/>
              </a:solidFill>
              <a:latin typeface="Calibri"/>
            </a:endParaRPr>
          </a:p>
        </p:txBody>
      </p:sp>
      <p:sp>
        <p:nvSpPr>
          <p:cNvPr id="109"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azionalizzare e semplificare le fasi, la modulistica, i tempi, ecc. (entro luglio 2010 riduzione dei tempi dei procedimenti – art. 7 della legge 69/2009)</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ubblicazione sul sito dell’iter dei procedimenti (art. 54 del CA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ubblicazione del testo delle norme sul sito (art. 54 del CA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Una pubblica amministrazione oggi è una amministrazione digitale</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 amministrazioni pubbliche devono essere (e lo saranno sempre piu’) amministrazioni digitali, senza carta, con archivi digitali validi giuridicamente, con transazioni elettroniche valide (posta elettronica certificata), con sistemi di protocollo informatico completo (protocollo+archivio digit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Diritti                          Doveri</a:t>
            </a:r>
            <a:endParaRPr b="0" lang="en-US" sz="4400" spc="-1" strike="noStrike">
              <a:solidFill>
                <a:srgbClr val="000000"/>
              </a:solidFill>
              <a:latin typeface="Calibri"/>
            </a:endParaRPr>
          </a:p>
        </p:txBody>
      </p:sp>
      <p:sp>
        <p:nvSpPr>
          <p:cNvPr id="111"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ittadino deve conoscere la struttura,le funzioni ed i dipendenti che operano nelle singole unità amministrativ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ittadino deve sapere se un procedimento che lo interessa viene avviato oppure no (art.8  legge 241/90)</a:t>
            </a:r>
            <a:endParaRPr b="0" lang="en-US" sz="2800" spc="-1" strike="noStrike">
              <a:solidFill>
                <a:srgbClr val="000000"/>
              </a:solidFill>
              <a:latin typeface="Calibri"/>
            </a:endParaRPr>
          </a:p>
        </p:txBody>
      </p:sp>
      <p:sp>
        <p:nvSpPr>
          <p:cNvPr id="112"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ubblicazione dell’organigramma e funzionigramma con la relativa distribuzione dei dipendenti nelle unità amministrativ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municazione obbligatoria (per posta o per emai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Diritti                           Doveri </a:t>
            </a:r>
            <a:endParaRPr b="0" lang="en-US" sz="4400" spc="-1" strike="noStrike">
              <a:solidFill>
                <a:srgbClr val="000000"/>
              </a:solidFill>
              <a:latin typeface="Calibri"/>
            </a:endParaRPr>
          </a:p>
        </p:txBody>
      </p:sp>
      <p:sp>
        <p:nvSpPr>
          <p:cNvPr id="11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ittadino deve autocertificare stati,fatti e qualità che lo riguardano (art. 18, comma 2 della legge 241/90; art. 16 bis, comma 2 della legge 2/2009</a:t>
            </a:r>
            <a:endParaRPr b="0" lang="en-US" sz="2800" spc="-1" strike="noStrike">
              <a:solidFill>
                <a:srgbClr val="000000"/>
              </a:solidFill>
              <a:latin typeface="Calibri"/>
            </a:endParaRPr>
          </a:p>
        </p:txBody>
      </p:sp>
      <p:sp>
        <p:nvSpPr>
          <p:cNvPr id="11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 dipendenti non devono chiedere documenti in loro possesso o in possesso di altre amministrazioni</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rt. 16 bis, comma 2 della legge 2/2009: azione disciplinare verso chi non si attiene alla nor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Diritti                       Doveri</a:t>
            </a:r>
            <a:endParaRPr b="0" lang="en-US" sz="4400" spc="-1" strike="noStrike">
              <a:solidFill>
                <a:srgbClr val="000000"/>
              </a:solidFill>
              <a:latin typeface="Calibri"/>
            </a:endParaRPr>
          </a:p>
        </p:txBody>
      </p:sp>
      <p:sp>
        <p:nvSpPr>
          <p:cNvPr id="11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Diritto di accesso agli atti e ai documenti (art. 22 e ss. della legge 241/90 e art. 10 del dlgs 267/200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Definire le condizioni documentali e tecniche per l’accesso telematico oltre che in presenza (art. 50 e ss. del CA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organizzazione del lavoro nelle amministrazioni digitali</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organizzazione del lavoro nelle amministrazioni digitali è regolata da norme generali e da norme tecniche già emanate ed oper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me procedere per organizzarsi al fine di creare una amministrazione digitale funzionale, trasparente, accessibile in re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nterventi di regolazion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n due interventi di base molto significativ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 il regolamento di organizzazione generale dell’e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B) le regole dell’ufficio digit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Il regolamento di organizzazione dell’ente</a:t>
            </a:r>
            <a:endParaRPr b="0" lang="en-US" sz="40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me organizzare un ente che deve rispettare i principi della legge 241/90 e del codice dell’amministrazione dell’amministrazione e del decreto 150/2009 (riforma Brunet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ertamente finalizzando il tutto al cittadino, ad una organizzazione interna funzionale ed economica, ad una organizzazione dei dati e dei servizi di tipo digit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Come costruiamo una amministrazione per il cittadino</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cittadino ha diritto ad avere una risposta veloce ed esaustiva alle istanze che presen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cittadino ha diritto ad una amministrazione trasparente (trasparenza delle pratich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cittadino ha diritto ad una amministrazione che deve stabilire correttamente la durata dei procedimenti (sulla base di una metodologia precisa e non …..con valutazioni discreziona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cittadino ha diritto…..</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cittadino ha diritto di inviare una lettera cartacea o una emai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cittadino ha diritto di sapere se un procedimento che lo interessa  puo’ essere avviato oppure n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cittadino ha diritto all’accesso ai document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cittadino ha diritto ad un procedimento efficace che si chiuda con un provvedimento corretto e comple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Bene: un regolamento dell’ente deve essere strutturato diversamente….</a:t>
            </a:r>
            <a:endParaRPr b="0" lang="en-US" sz="40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t>
            </a:r>
            <a:r>
              <a:rPr b="0" lang="it-IT" sz="3200" spc="-1" strike="noStrike">
                <a:solidFill>
                  <a:srgbClr val="000000"/>
                </a:solidFill>
                <a:latin typeface="Calibri"/>
              </a:rPr>
              <a:t>..da come finora sono stati redatti ed emanati i regolament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Finalità dell’en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Organ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irigenz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ersona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Organic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Regolamenti non finalizzati al cittadi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lued Acer Customer</cp:lastModifiedBy>
  <dcterms:modified xsi:type="dcterms:W3CDTF">2010-02-26T17:30:37Z</dcterms:modified>
  <cp:revision>26</cp:revision>
  <dc:subject/>
  <dc:title>IL MODELLO DI ORGANIZZAZIONE DEL LAVORO NELL’ AMMINISTRAZIONE DIGITALE</dc:title>
</cp:coreProperties>
</file>