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21DE-F3A1-4A40-8B38-B2FB742B605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6D14-ED5C-4751-869B-71A1EC5A4CA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3ACD-325E-4BA3-8C55-76F468984DF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8295-84AE-4C6D-87BF-F935FAB0F6B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FBD5-CA92-4778-B7CA-A0E6665B0B5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6AAB-3B78-4E8C-A874-ED94EBB9EE4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E2CB-F29D-443E-9B97-06FFE88A7D3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0457-E07D-49A0-BDA5-42A1F0C455A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0BA0-7F1F-46E9-8EEE-FA16602C4DB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AECA-5EF4-4C81-BC21-358F7307971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BFCA-A62E-4159-87FE-F068248C6FE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057-015C-4C32-B34D-5870DFBA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E3B-FF6D-4845-8E8B-80339022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394E8-1AC0-4CB7-91F9-911CDAEC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8F300-66BC-4894-A35E-07AEA173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2A46D-A329-4B9B-B300-ECBDAD2C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8D615-33F8-40E9-AEC1-60DA370C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238C9-857F-4C28-99C9-FFDE9BFC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56E29-F3E6-4C71-B279-65C86C33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FB232-D843-4B7E-A288-081838F7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FCEC7-E1D3-4AAC-8F14-AE923946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697A6-C8B5-4152-9F72-5BA19AD5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93292-1170-4F05-B606-FE4D1F7A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3FE1-701A-4FF9-9C4E-5B481E19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612FD-FFC3-4A67-B403-CC3F973E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3DC94-14B8-46FC-A9CB-5C543B77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568D9-4A5B-40AD-B98B-6357E539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5C12A-0F70-4AB8-AFB4-B1E8120C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67EDB-5433-4650-BC3C-CCB0834E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BB34C-AF7A-46A6-9299-6F0DDA1E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FA378-A656-433C-9F01-933C6473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FBE2B-5743-4761-A3F8-D3A189C7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328F3-844D-41BE-AF13-1AB20FAD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D0041-FD07-42AA-9745-46D070CC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E7B-6047-4813-8D57-2AD88734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7A93E-E055-4961-A945-F3CA137C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36A44-D24E-4A6C-84D6-E6C4F1A3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F2D48-11AE-4580-86DC-DA47EE68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91E9F-89E9-495E-B9A3-19CC933E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776F7-29C3-41E6-BF83-6B1FA397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1D0C1-5A64-4B9F-A979-AD56A853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C3D33-4145-42C5-8CFB-E659764D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3401A-AD67-4AAA-BFA8-4F3F57B6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4046A-F411-479A-A0C1-0666B08A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7D992-431C-4E7D-8565-08C5628B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F7FA-7F13-4587-A989-AA0E15C2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60D5E-6496-4A4F-9141-AADF727A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8A649-E2FD-444B-A6DE-270E65D0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7B718-EDA4-491F-B510-494309FF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D7C57-881E-4A3D-B23E-6E12ACCA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1C0EC-7C5A-4792-82CA-5A9C1C82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B7FAC-BA0C-4D01-83D3-7865F50B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9FBEE-7670-4204-A3F0-D1AEAD5C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0A9E3-9DDC-4AF6-80F8-EAA51BFE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94CB6-A9B0-4E00-9BFA-D247752F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48383-3DB1-48CD-8938-C2543C3A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1FBA-F87F-4244-894B-23CB7CA6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8BDDD-2403-451A-BB7A-D1ACB0B6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9585F-0D3B-4F12-A7C4-B2BA8879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DAACF-817E-4CC0-BE78-54AF017E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D5B24-32D6-4403-B3C3-2DB943C6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AFE5E-F403-469D-9888-44F29F6F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D8DD-8BD1-475E-9D9E-9CFE17CC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EC1F-8313-4B3D-9811-B7E3D820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8FCE-9E5E-4200-9E91-006A55F0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D429-953C-43B8-8B81-DD6A1DC6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A9E3-3BFA-4543-8789-C23E3565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CBF-46FA-485B-AF9A-3F7CE5BE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6A32-5E01-48F9-83E2-CA835D5B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B967-DA11-42C1-986C-75E4FB09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7769-6061-44FA-B982-B1662C45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4D5E-F0DB-48C2-B46A-C5014D3C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8D74-8D9F-453B-B170-C5CF5759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77AFB-540A-4040-8133-75C1FB73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4D07B-EF6E-49C4-B350-C75E04B0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C26BB-6DF4-41B4-A460-00DBD784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EB902-2140-4018-8B60-5AE3133E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CC213-A7DE-4776-8048-EF8E9A2B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CD4-654D-4D61-B7D5-6037EB76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C0B75-8A2F-412A-AD52-2D326B62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095F7-5E08-4E0C-9818-2D754E9B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D9E39-20C9-4C70-BAF7-2FE26FE6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47560-F470-4A23-9D4C-91CFD47E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D25F6-9EE6-429D-B9A1-5EDA64DA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59E1A-9323-4409-9795-BD6A66A8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48DA9-4DDD-464D-A248-DBFB6A14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1A1F4-90D9-4F9B-B024-B9CF142E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B4687-E03B-44D5-B1CE-33E05213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E1DB0-1F1E-4A18-B49E-772DB7C3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F13-08A9-4378-837B-9910EE8A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81D58-094B-4672-89F4-C3789832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3AEFA-D934-44F4-B847-A358A460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0D9AE-F60A-4B9B-8300-06377520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C7812-60DA-4DD2-B0C2-424A29BE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7444E-15F9-4457-ADAE-CC786F3C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EFE26-D73C-4164-9EB8-DA0757AB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0CBFE-1DA9-431A-9484-E1B1C0A1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71D72-D55C-418E-AFE5-9F5CCAD5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4C8E9-7BBF-4E36-AFA0-0A9AADF6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AB457-E80C-49E4-93F5-FF906662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5DA2-1F25-4014-A84D-59764CDF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5A2F8-C806-40AF-8D29-B8EEDF00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D37E4-9A53-48A1-A41F-7D41C3A2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B71A4-A371-441E-8A4A-14FE91E4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9CEFE-E1D6-4EFB-9D37-99A8254D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11EE4-CDF0-4924-B9BA-E2A6E171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26F11-82F7-4977-9E4A-DE827CA0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BAF94-BCA8-47E9-8250-806B5702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24AAC-8520-4AAA-B02D-AE25F467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F43DB-DC54-4D40-A521-1D4B5C97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E6155-A1DF-4E04-95DF-E7316E10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627-F33F-4DE4-819B-A6BA9B08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FAE48-8ACF-46E8-AE21-7B5CF274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F2943-C3A1-4A9B-BFDA-76591F14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74C7A-AAB4-4A55-B487-A324FD54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4276A-EC4F-476F-8FDF-E2CD7019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2B537-7E55-4010-BBD5-10A2B8C4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B07F2-2914-4494-8AEA-8D9B1976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28DDA-1040-4A14-9F35-5A15D52B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88D1D-C901-490D-90F6-50827FCC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F9BB7-DCF7-40C9-9E71-91474E31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17C31-862D-49D7-9A00-618A465C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8281-04C1-4863-8C8A-9ED8759E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B0AF3-4F90-4E52-B623-5F63F5AF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1F7FF-4927-44B5-9F36-52E13E43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604A6-63A4-47CD-B434-20E46C12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4D406-9E17-474D-BB8D-7CDFBA0C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44ED5-ECA8-4567-B25D-92A1EB14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244F7-B20D-4DFC-AFDD-0AC73B63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5A7E2-CD6E-4166-A65D-E2154D66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E148D-B31F-4B97-ABDA-20E2F939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D125F-B56E-4196-BD01-52EEAFB8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A26DD-5BAC-41D4-A2EC-6C836534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3DD-D3E5-4A3A-8715-F15D6C17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FFAAD-FD0B-4C19-9276-A479C043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E08CF-FEFC-4EDA-BC76-77327A5C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B0062-63E3-4ACC-B87A-EBB0A84A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BBD5E-BD72-47D9-BB92-A6A74CE9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05DA7-3BB4-4306-999D-ACE7C140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6D629-629F-4F7D-BABD-EB0FBFC0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FCCD0-68B3-4517-8F74-F6F3262C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5CA3E-8670-4786-9CB7-4A1480CA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0E560-3FD8-4185-8350-622DFF36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B7A7B-E17C-4A8E-AF56-C16E6258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325-4279-4E06-87B8-387F5BE0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F0133-4017-4676-8CE1-4991F97C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74CE8-FB1C-4911-89F2-4E8CC5E4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0943C-469A-4568-A2E4-D516E13D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1E2D1-5ADA-4A05-BBB7-1D11DE10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539AA-3487-43DB-93CF-BCC3D087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F4218-1278-41E4-A132-CD22AF5C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2C8B5-25D3-48B4-ADF8-4BC5C5D9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71490-7580-429D-A632-12360CED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D86D4-D57C-45BA-A6BC-1849671D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CBD43-75C8-4EDC-B1B4-4629B680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EB93-0B07-4073-A3B8-19A092DEA23F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4F25-DF2C-42D5-A08C-276655BEC9F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riangolo isosce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ttangolo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F354-0473-43F3-9DB2-670393DC6F85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44CD-765C-4D4E-B187-5AC499DD6387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D8F7-C3E6-4E0A-BE2A-A666F0EAE5E9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C548-55EA-4028-96B3-D4FF131A9B2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riangolo isosce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Connettore 1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CEAD-EF39-49F1-AF14-F83F9A0B1E6A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2BA1-9DB5-4D16-85D9-E61ADB0EDDB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tangolo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tangolo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tangolo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tangolo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06C2-DB77-419E-877B-60CFFF923DD6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5FBD-81EA-4A66-BEBC-BDF5209A7F4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Dicembre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DA14-7499-47E8-9074-62517D682C3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Presentazione Assotusc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tangolo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tangolo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4CFE-92DF-43B1-AC55-1E55F34ADEAE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008F-A5C2-46C2-A822-E3CA22386CAF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3CC0-AC7A-4CEC-8BC0-AD7C35748FE9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8FA5-9AE0-41EA-9C03-672CCCAF3FC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749E-597D-41EB-BC1D-564EDC14C130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F8BE-835A-4444-9B39-EC77A8155D0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riangolo isosce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6739-7614-4A4F-BA99-5A5213D5E442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8A57-BC7B-4445-9D57-06A00F9507C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riangolo isosce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765F-7963-4529-AED5-BA922E984C6A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566C-39D0-466A-9921-0C331FDECB5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onnettore 1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riangolo isosce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6CF2-D33F-4BE1-97E3-D03DE31051E2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C581-A9F9-4ABD-AB0A-27BF3512E97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ssotuscania.it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14316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it-IT" sz="25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it-IT" sz="2500" spc="-1" strike="noStrike">
                <a:solidFill>
                  <a:srgbClr val="000000"/>
                </a:solidFill>
                <a:latin typeface="Bookman Old Style"/>
              </a:rPr>
              <a:t>Il nuovo modello di organizzazione del lavoro nell’amministrazione digitale </a:t>
            </a: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64653"/>
                </a:solidFill>
                <a:latin typeface="Bookman Old Style"/>
              </a:rPr>
              <a:t>Tuscania, 26 febbraio 201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CasellaDiTesto 5"/>
          <p:cNvSpPr/>
          <p:nvPr/>
        </p:nvSpPr>
        <p:spPr>
          <a:xfrm>
            <a:off x="5971680" y="635796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ww.assotuscania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egnaposto numero diapositiva 6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52C6-1056-422C-94ED-7505C46A4A6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9274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"/>
          <p:cNvPicPr/>
          <p:nvPr/>
        </p:nvPicPr>
        <p:blipFill>
          <a:blip r:embed="rId2"/>
          <a:srcRect l="9375" t="47815" r="17383" b="21250"/>
          <a:stretch/>
        </p:blipFill>
        <p:spPr>
          <a:xfrm>
            <a:off x="1928880" y="2000160"/>
            <a:ext cx="514332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Bookman Old Style"/>
              </a:rPr>
              <a:t>…</a:t>
            </a:r>
            <a:r>
              <a:rPr b="0" lang="it-IT" sz="2800" spc="-1" strike="noStrike">
                <a:solidFill>
                  <a:srgbClr val="002060"/>
                </a:solidFill>
                <a:latin typeface="Bookman Old Style"/>
              </a:rPr>
              <a:t>. E molte altre iniziative ancora!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4" name="Segnaposto numero diapositiva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C5D2-D5C5-4510-A4E8-E4635D066F1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rcRect l="25196" t="27189" r="32031" b="61563"/>
          <a:stretch/>
        </p:blipFill>
        <p:spPr>
          <a:xfrm>
            <a:off x="6429240" y="6357960"/>
            <a:ext cx="2357640" cy="3873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Seguiteci sul nostro si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b292ca"/>
                </a:solidFill>
                <a:uFillTx/>
                <a:latin typeface="Gill Sans MT"/>
                <a:hlinkClick r:id="rId2"/>
              </a:rPr>
              <a:t>www.assotuscania.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Grazie per l’attenzione e buon lavoro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Bookman Old Style"/>
              </a:rPr>
              <a:t>GIORNATA DI STUDIO</a:t>
            </a:r>
            <a:br>
              <a:rPr sz="2800"/>
            </a:br>
            <a:r>
              <a:rPr b="0" lang="it-IT" sz="2800" spc="-1" strike="noStrike">
                <a:solidFill>
                  <a:srgbClr val="002060"/>
                </a:solidFill>
                <a:latin typeface="Bookman Old Style"/>
              </a:rPr>
              <a:t>Il nuovo modello di organizzazione del lavoro nell’amministrazione digitale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857240"/>
            <a:ext cx="822960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ill Sans MT"/>
              </a:rPr>
              <a:t>Program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Gill Sans MT"/>
              </a:rPr>
              <a:t>Apertura dei lavor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ill Sans MT"/>
              </a:rPr>
              <a:t>Luisa Marini</a:t>
            </a: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, Comunicazione e Ufficio Stampa Assotuscani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ill Sans MT"/>
              </a:rPr>
              <a:t>Massimo Natali</a:t>
            </a: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, Sindaco di Tuscani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Gill Sans MT"/>
              </a:rPr>
              <a:t>Intervent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ill Sans MT"/>
              </a:rPr>
              <a:t>Giovanni Bartoletti</a:t>
            </a: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, Assessore con delega al sistema informatico del Comune di Viterb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ill Sans MT"/>
              </a:rPr>
              <a:t>Angelo Cappelli</a:t>
            </a: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, Assessore con delega all’innovazione e alle reti e sistemi informatici della Provincia di Viterb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Gill Sans MT"/>
              </a:rPr>
              <a:t>Relazio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ill Sans MT"/>
              </a:rPr>
              <a:t>Donato A. Limone</a:t>
            </a: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, ordinario di informatica giuridica e docente di scienza dell’amministrazione digitale presso le Università La Sapienza di Roma,  Università telematica Telma, Università del Salento (direttore del laboratorio di egovernment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29A9-5048-4DB8-8EA3-335E70A9C7B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rcRect l="25196" t="27189" r="32031" b="61563"/>
          <a:stretch/>
        </p:blipFill>
        <p:spPr>
          <a:xfrm>
            <a:off x="6429240" y="6357960"/>
            <a:ext cx="235764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2060"/>
                </a:solidFill>
                <a:latin typeface="Bookman Old Style"/>
              </a:rPr>
              <a:t>Assotuscania: chi siamo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500120"/>
            <a:ext cx="8229600" cy="46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Siamo persone che amano Tuscania e che hanno a cuore lo sviluppo della citt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Alcuni di noi sono residenti a Tuscania da sempre, altri sono tuscanesi di adozione, altri ancora semplicemente innamorati di questa bella e importante città, che è patrimonio del nostro Paese e parte integrante della nostra identità cultura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Segnaposto numero diapositiva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5F25-60C2-479B-A722-2768F724D4F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rcRect l="25196" t="27189" r="32031" b="61563"/>
          <a:stretch/>
        </p:blipFill>
        <p:spPr>
          <a:xfrm>
            <a:off x="6429240" y="6357960"/>
            <a:ext cx="235764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Bookman Old Style"/>
              </a:rPr>
              <a:t>Perché l’Associazione </a:t>
            </a:r>
            <a:br>
              <a:rPr sz="3200"/>
            </a:br>
            <a:r>
              <a:rPr b="0" lang="it-IT" sz="3200" spc="-1" strike="noStrike">
                <a:solidFill>
                  <a:srgbClr val="002060"/>
                </a:solidFill>
                <a:latin typeface="Bookman Old Style"/>
              </a:rPr>
              <a:t>(costituita il 16 settembre 2008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357200"/>
            <a:ext cx="8229600" cy="46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Promuovere l’immagine della città di Tuscania con il ricorso ai più avanzati servizi e  mezzi di informazione e comunicazio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Definire e realizzare tutte le iniziative idonee a sostenere lo sviluppo socio-economico e culturale della citt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Collaborare con le istituzioni pubbliche  competenti per le attività di promozione e sviluppo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Segnaposto numero diapositiva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6B78-6E1E-4606-B401-64ED902236A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1"/>
          <a:srcRect l="25196" t="27189" r="32031" b="61563"/>
          <a:stretch/>
        </p:blipFill>
        <p:spPr>
          <a:xfrm>
            <a:off x="6429240" y="6357960"/>
            <a:ext cx="235764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2060"/>
                </a:solidFill>
                <a:latin typeface="Bookman Old Style"/>
              </a:rPr>
              <a:t>Le caratteristiche dell’Associazione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500120"/>
            <a:ext cx="8229600" cy="46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Apartitica,  indipendente e senza fini di lucr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Aperta al contributo di tutti coloro che condividono i principi e gli obiettivi dell’Associazione e che abbiano le caratteristiche di eticità e correttezza per poterne fare par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Le attività sono prestate in forma volontaria, libera e gratuita dai propri associat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Segnaposto numero diapositiva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2626-9186-4C49-BDD3-046653D7051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rcRect l="25196" t="27189" r="32031" b="61563"/>
          <a:stretch/>
        </p:blipFill>
        <p:spPr>
          <a:xfrm>
            <a:off x="6429240" y="6357960"/>
            <a:ext cx="235764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2060"/>
                </a:solidFill>
                <a:latin typeface="Bookman Old Style"/>
              </a:rPr>
              <a:t>Come operiamo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4997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1000"/>
          </a:bodyPr>
          <a:p>
            <a:pPr marL="11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11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111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11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11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2000" spc="-1" strike="noStrike">
                <a:solidFill>
                  <a:srgbClr val="002060"/>
                </a:solidFill>
                <a:latin typeface="Gill Sans MT"/>
              </a:rPr>
              <a:t>In modo concreto, rapportandoci        innanzitutto c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7960" y="1456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Gill Sans MT"/>
              </a:rPr>
              <a:t>Attraverso iniziative finalizzate a temi e obiettivi specifici     (gruppi di lavor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Segnaposto numero diapositiva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9321-2835-4444-8F39-03CCDFD7D35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562" name="Diagramma 5" descr=""/>
          <p:cNvPicPr/>
          <p:nvPr/>
        </p:nvPicPr>
        <p:blipFill>
          <a:blip r:embed="rId1"/>
          <a:stretch/>
        </p:blipFill>
        <p:spPr>
          <a:xfrm>
            <a:off x="208080" y="2560680"/>
            <a:ext cx="4082760" cy="2444760"/>
          </a:xfrm>
          <a:prstGeom prst="rect">
            <a:avLst/>
          </a:prstGeom>
          <a:ln w="0">
            <a:noFill/>
          </a:ln>
        </p:spPr>
      </p:pic>
      <p:pic>
        <p:nvPicPr>
          <p:cNvPr id="563" name="Diagramma 13" descr=""/>
          <p:cNvPicPr/>
          <p:nvPr/>
        </p:nvPicPr>
        <p:blipFill>
          <a:blip r:embed="rId2"/>
          <a:stretch/>
        </p:blipFill>
        <p:spPr>
          <a:xfrm>
            <a:off x="3614760" y="2352600"/>
            <a:ext cx="6108840" cy="4097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" descr=""/>
          <p:cNvPicPr/>
          <p:nvPr/>
        </p:nvPicPr>
        <p:blipFill>
          <a:blip r:embed="rId3"/>
          <a:srcRect l="25196" t="27189" r="32031" b="61563"/>
          <a:stretch/>
        </p:blipFill>
        <p:spPr>
          <a:xfrm>
            <a:off x="6429240" y="6357960"/>
            <a:ext cx="2357640" cy="387360"/>
          </a:xfrm>
          <a:prstGeom prst="rect">
            <a:avLst/>
          </a:prstGeom>
          <a:ln w="0">
            <a:noFill/>
          </a:ln>
        </p:spPr>
      </p:pic>
      <p:grpSp>
        <p:nvGrpSpPr>
          <p:cNvPr id="565" name="Gruppo 11"/>
          <p:cNvGrpSpPr/>
          <p:nvPr/>
        </p:nvGrpSpPr>
        <p:grpSpPr>
          <a:xfrm>
            <a:off x="264960" y="3303720"/>
            <a:ext cx="3641760" cy="4068720"/>
            <a:chOff x="264960" y="3303720"/>
            <a:chExt cx="3641760" cy="4068720"/>
          </a:xfrm>
        </p:grpSpPr>
        <p:grpSp>
          <p:nvGrpSpPr>
            <p:cNvPr id="566" name="Fumetto 3 9"/>
            <p:cNvGrpSpPr/>
            <p:nvPr/>
          </p:nvGrpSpPr>
          <p:grpSpPr>
            <a:xfrm>
              <a:off x="264960" y="3303720"/>
              <a:ext cx="3641760" cy="3251160"/>
              <a:chOff x="264960" y="3303720"/>
              <a:chExt cx="3641760" cy="3251160"/>
            </a:xfrm>
          </p:grpSpPr>
          <p:pic>
            <p:nvPicPr>
              <p:cNvPr id="567" name="Fumetto 3 9" descr=""/>
              <p:cNvPicPr/>
              <p:nvPr/>
            </p:nvPicPr>
            <p:blipFill>
              <a:blip r:embed="rId4"/>
              <a:stretch/>
            </p:blipFill>
            <p:spPr>
              <a:xfrm>
                <a:off x="264960" y="3303720"/>
                <a:ext cx="3641760" cy="32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 rot="16827000">
                <a:off x="846720" y="4269600"/>
                <a:ext cx="1550160" cy="187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CasellaDiTesto 10"/>
            <p:cNvSpPr/>
            <p:nvPr/>
          </p:nvSpPr>
          <p:spPr>
            <a:xfrm>
              <a:off x="673920" y="4535280"/>
              <a:ext cx="19281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I gruppi di lavoro riuniscono e organizzano progettualità incanalandole in proposte, sulle quali mobilitare le 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Istituzioni, i cittadini, il territori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Bookman Old Style"/>
              </a:rPr>
              <a:t>Temi-guida fondamentali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1" name="Segnaposto numero diapositiva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2362-4C88-45DB-9FCD-EC3659839D8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rcRect l="25196" t="27189" r="32031" b="61563"/>
          <a:stretch/>
        </p:blipFill>
        <p:spPr>
          <a:xfrm>
            <a:off x="6429240" y="6357960"/>
            <a:ext cx="2357640" cy="387360"/>
          </a:xfrm>
          <a:prstGeom prst="rect">
            <a:avLst/>
          </a:prstGeom>
          <a:ln w="0">
            <a:noFill/>
          </a:ln>
        </p:spPr>
      </p:pic>
      <p:sp>
        <p:nvSpPr>
          <p:cNvPr id="573" name="CasellaDiTesto 9"/>
          <p:cNvSpPr/>
          <p:nvPr/>
        </p:nvSpPr>
        <p:spPr>
          <a:xfrm>
            <a:off x="3714840" y="2071800"/>
            <a:ext cx="4714920" cy="411732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Temi-guida programmatici fondamen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rasparenza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Buongov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atrimonio culturale e ambie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apporto con i cittadini, democrazia partecip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ccia circolare in giù 15"/>
          <p:cNvSpPr/>
          <p:nvPr/>
        </p:nvSpPr>
        <p:spPr>
          <a:xfrm>
            <a:off x="1500120" y="1214280"/>
            <a:ext cx="7072560" cy="1571760"/>
          </a:xfrm>
          <a:custGeom>
            <a:avLst/>
            <a:gdLst>
              <a:gd name="textAreaLeft" fmla="*/ 1620720 w 7072560"/>
              <a:gd name="textAreaRight" fmla="*/ 5255280 w 7072560"/>
              <a:gd name="textAreaTop" fmla="*/ 210600 h 1571760"/>
              <a:gd name="textAreaBottom" fmla="*/ 136116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00" hR="21600" stAng="10800000" swAng="5400000"/>
                <a:lnTo>
                  <a:pt x="11100" y="0"/>
                </a:lnTo>
                <a:arcTo wR="9900" hR="21600" stAng="-5400000" swAng="3636334"/>
                <a:lnTo>
                  <a:pt x="21286" y="16200"/>
                </a:lnTo>
                <a:lnTo>
                  <a:pt x="20400" y="21600"/>
                </a:lnTo>
                <a:lnTo>
                  <a:pt x="18886" y="16200"/>
                </a:lnTo>
                <a:lnTo>
                  <a:pt x="19486" y="16200"/>
                </a:lnTo>
                <a:arcTo wR="9900" hR="21600" stAng="-1763666" swAng="-3540690"/>
                <a:lnTo>
                  <a:pt x="10500" y="40"/>
                </a:lnTo>
                <a:arcTo wR="9900" hR="21600" stAng="-5495644" swAng="-5304356"/>
                <a:close/>
              </a:path>
              <a:path fill="darkenLess" w="21600" h="21600">
                <a:moveTo>
                  <a:pt x="0" y="21600"/>
                </a:moveTo>
                <a:arcTo wR="9900" hR="21600" stAng="10800000" swAng="5400000"/>
                <a:lnTo>
                  <a:pt x="9900" y="0"/>
                </a:lnTo>
                <a:arcTo wR="9900" hR="21600" stAng="-5400000" swAng="95644"/>
                <a:lnTo>
                  <a:pt x="10500" y="40"/>
                </a:lnTo>
                <a:arcTo wR="9900" hR="21600" stAng="-5495644" swAng="-5304356"/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2"/>
          <a:srcRect l="9375" t="47815" r="76384" b="34280"/>
          <a:stretch/>
        </p:blipFill>
        <p:spPr>
          <a:xfrm>
            <a:off x="642960" y="2643120"/>
            <a:ext cx="24289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Bookman Old Style"/>
              </a:rPr>
              <a:t>Iniziative realizzate nel </a:t>
            </a:r>
            <a:r>
              <a:rPr b="1" lang="it-IT" sz="3200" spc="-1" strike="noStrike">
                <a:solidFill>
                  <a:srgbClr val="002060"/>
                </a:solidFill>
                <a:latin typeface="Bookman Old Style"/>
              </a:rPr>
              <a:t>2009</a:t>
            </a:r>
            <a:r>
              <a:rPr b="0" lang="it-IT" sz="3200" spc="-1" strike="noStrike">
                <a:solidFill>
                  <a:srgbClr val="002060"/>
                </a:solidFill>
                <a:latin typeface="Bookman Old Style"/>
              </a:rPr>
              <a:t> …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Gill Sans MT"/>
              </a:rPr>
              <a:t>GIORNATE DI STUDIO E TAVOLE ROTOND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La trasparenza e la semplificazione dell’azione politica ed amministrativa nelle autonomie locali. Dalla trasparenza “teorica” alla trasparenza “reale”.Aspetti politici, organizzativi e gestionali” –</a:t>
            </a: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6 dicembre 2008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La legge 241/90:il diritto ad una amministrazione trasparente e semplificata “ –</a:t>
            </a: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15 maggio 2009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Tuscania sul cammino etrusco: Progetto speciale della Via Clodia, un piano socio-economico e territoriale di area vasta per la qualità del territorio e il benessere della comunità locale</a:t>
            </a: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”, - 10 luglio 2009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Società, economia e territorio di Tuscania: piani di assetto e uso del territorio, analisi e proposte </a:t>
            </a: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31 ottobre 2009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Gill Sans MT"/>
              </a:rPr>
              <a:t>CONFERENZE E INCONTRI CON LE REALTA’ POLITICHE E SOCIALI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 “</a:t>
            </a: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Assotuscania si presenta: incontro pubblico</a:t>
            </a: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”, 3 aprile 2009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I candidati Sindaco si presentano e illustrano ai cittadini i loro programmi per Tuscania</a:t>
            </a: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”, 16 maggio 2009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Per aiutare Tuscania, incontriamoci!”,</a:t>
            </a: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 27 giugno 2009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Gill Sans MT"/>
              </a:rPr>
              <a:t>EVENTI CULTURALI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Festa Grande per Libro Grosso di Ennio Cavalli”. </a:t>
            </a: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2 ottobre 2009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FC43-97A1-4007-9932-FB0FF66F890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ttangolo 4"/>
          <p:cNvSpPr/>
          <p:nvPr/>
        </p:nvSpPr>
        <p:spPr>
          <a:xfrm>
            <a:off x="214200" y="4357800"/>
            <a:ext cx="8715600" cy="85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Bookman Old Style"/>
              </a:rPr>
              <a:t>Iniziative</a:t>
            </a:r>
            <a:r>
              <a:rPr b="1" lang="it-IT" sz="3200" spc="-1" strike="noStrike">
                <a:solidFill>
                  <a:srgbClr val="002060"/>
                </a:solidFill>
                <a:latin typeface="Bookman Old Style"/>
              </a:rPr>
              <a:t> 2010, in corso e pianifica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Gill Sans MT"/>
              </a:rPr>
              <a:t>PROGETTI IN CORS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it-IT" sz="1800" spc="-1" strike="noStrike">
                <a:solidFill>
                  <a:srgbClr val="000000"/>
                </a:solidFill>
                <a:latin typeface="Gill Sans MT"/>
              </a:rPr>
              <a:t>Progetto Speciale della Via Clodia</a:t>
            </a: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”.  Protocollo d’intesa proposto da Assotuscania ai comuni  dell’area vasta della Via Clodia sottoscritto dai </a:t>
            </a:r>
            <a:r>
              <a:rPr b="0" i="1" lang="it-IT" sz="1800" spc="-1" strike="noStrike">
                <a:solidFill>
                  <a:srgbClr val="000000"/>
                </a:solidFill>
                <a:latin typeface="Gill Sans MT"/>
              </a:rPr>
              <a:t>comuni di Tuscania, Arlena, Canino, Cellere, Farnese, Ischia di Castro, Montalto di Castro, Tessennano, Vetralla, Villa San Giovanni in Tuscia, Viterbo, Monteromano, Provincia di Viterb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Gill Sans MT"/>
              </a:rPr>
              <a:t>GIORNATA DI STUDIO 20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Il decreto “Brunetta”. Organizzazione del lavoro, performance, eGovernment  nelle Autonomie Locali.  Come attuare il dlgs 150/2009: linee guida “, 15 gennaio 201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Il nuovo modello di organizzazione del lavoro nell’amministrazione digitale,” 26 febbraio 201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Il marketing territoriale: competenza e metodologia per Tuscania, Cos’è il marketing territoriale, come farlo, come procedere metodologicamente “, 5 marzo 201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Gill Sans MT"/>
              </a:rPr>
              <a:t>CONFERENZE E INCONTRI CON LE REALTA’ POLITICHE E SOCIALI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L’Amministrazione di Tuscania un anno dopo. Bilancio del primo anno di attività, stato di attuazione del programma del governo locale, giugno 201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C355-B2BF-4C7D-B7F6-81311279970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1:01:41Z</dcterms:created>
  <dc:creator>Utente Windows</dc:creator>
  <dc:description/>
  <dc:language>en-US</dc:language>
  <cp:lastModifiedBy>Utente Windows</cp:lastModifiedBy>
  <dcterms:modified xsi:type="dcterms:W3CDTF">2010-02-25T13:40:41Z</dcterms:modified>
  <cp:revision>82</cp:revision>
  <dc:subject/>
  <dc:title>Associazione  per lo sviluppo socio-economico  e culturale della città di Tuscania</dc:title>
</cp:coreProperties>
</file>