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E9EC-6CC1-411B-AC42-9185696F63E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D813-82BC-46A5-A347-420192A1A56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EFC6-5E90-4A20-AB39-948AB4F9CD9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4CA2-44A9-4983-950C-74EFDFF6260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39C1-325D-46AF-92C6-5B862FD6E15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3097-3DC0-4F97-97A0-45A285FC075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41BB-BB6A-4E07-BEEB-B033E28A491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82A8-8C7E-460B-8C5B-8B6D634FD5B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08AB-8817-459C-B0DC-02700B0FAF5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3460-75F8-409E-9822-D9127180CA7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5836-D4BA-4C29-87C1-2A657F591BC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A902-F668-4FCE-8A1E-6E8E2006D9AB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E9DD-6FAA-4134-9B1F-895A3EF1BB1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48E7-CAFD-4EEA-A11D-74011C8D766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2F7B-2D7F-4A14-BC10-A0F5A6BC873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6258-DA8F-400B-A6C5-F80EAC3F409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5492-E267-4924-9E0B-AD6670409A1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5801-4891-4863-BBB7-94B53758AB7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0146-B590-4798-AD05-4E6D1E0BAA1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7C91-A446-4D42-8026-10FE58B7E79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B53B-C9CF-4602-BFD8-57AF1F2FCE0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6F36-D658-424F-9AA3-A922371A8B1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3A86-DF4E-4F33-8D2A-9690CD45B4F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47B0-47A5-4A13-BAA8-F6DDE65EB89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5890-FD75-4461-8A25-4CB12E8CF5C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8769-F687-41CE-8CDC-21C9F77F88B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548D-B772-4C17-B8F5-DE847C46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3C7-12A6-4FA8-89B0-1660EACA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71A-3CCF-415B-9288-ABC351DC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1D98-0B04-4FCE-8FA4-D07CBDB8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4783-6799-47BE-8322-5475D0F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588-2ECE-41A5-BE98-F9E402D6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306-02B1-46C5-A45A-A0777384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662A-8C2A-48D1-9DAF-073138E5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72A-3A8B-49D4-B445-497465F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298-7CD2-444B-934C-9674630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78D-8A5C-4FCC-9970-C381C26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CAE-8F9A-4A92-ACB2-4D117D4E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B03C-B45C-479C-AD83-C0165113CFB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IL NUOVO MODELLO DI ORGANIZZAZIONE DEL LAVORO, IL CICLO DI VALUTAZIONE, LA TRASPARENZA DEI RISULTATI.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LINEE GUIDA ALL’APPLICAZIONE DEL DLGS 150/20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898989"/>
                </a:solidFill>
                <a:latin typeface="Calibri"/>
              </a:rPr>
              <a:t>Donato A. Limone,ordinario di informatica giuridica; docente di scienza dell’amministrazione, Università La Sapienza e Università telematica Telma,Rom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898989"/>
                </a:solidFill>
                <a:latin typeface="Calibri"/>
              </a:rPr>
              <a:t>Giornata di studio, Assotuscania, Tuscania, 15.1.20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sa misurare: L’amministrazione nel suo comples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ingoli settori (attività, servizi, dirigenti, personale, rapporti con l’utenza, qualità dei servizi, soddisfazione dell’utenz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ttività  (procedure, procedimenti) : migliorate, semplificate, digitalizz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Quantità e qualità dei servizi re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ivello della qualità dei serviz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Metodologie e dati per effettuare una valutazione dell’amministrazione nel suo compless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sa misurare: il sistema documentale pubbl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sistema documentale costituisce l’insieme dei dati e dei documenti che entrano nell’ente o che sono prodotti dallo stesso 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sistema deve essere valutato nel suo grado di funzionalità, di dematerializzazione, di digitalizzazio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Un sistema documentale come quello cartaceo certamente caratterizza una amministrazione costosa, lunga, non trasparente e non funzionale per i cittadi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sa misurare: Il sistema procedimental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l sistema dei procedimenti amministrativi costituisce l’insieme delle regole e delle procedure in base alle quali il cittadino si rivolge all’amministrazione, presenta una istanza per ottenere un servizio, una licenza, un certificato,ecc. e tutto questo viene effettuato sulla base di un sistema razionalizzato, snello, non appesantito da adempimenti inutili, in modo digit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Il contrario (sistema manuale, lungo, pieni di inutili fasi, firme e traversie…..) contrassegna una burocrazia di tipo formale, costosa, non attenta ai propri cittadini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sa misurare: Il sistema di comunicazione verso il cittadino, l’impresa e l’uten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l sistema di comunicazione istituzionale (legge 150/20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è stato progettato e realizz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funziona e come viene aggiorna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è stato realizzato e funziona il sito informatico istituzionale (è a norma di legge; art.54 del dlgs 82/2005); in base alla legge 69/2009 il sito costituirà la fonte primaria della pubblicità legale degli atti dell’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sa misurare: La dirigen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’operato del dirigente rispetto agli obiettivi definiti dagli organi politico-amministrativ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’operato del dirigente rispetto ai propri dipenden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’operato del dirigente rispetto alla qualità dei servizi all’utenz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’operato del dirigente rispetto al sistema procedimentale di riferime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’operato del dirigente rispetto al sistema documentale del proprio setto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sa misurare: I dipendent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il dipendente opera nell’ambito dei singoli progetti di rifer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il dipendente collabora per razionalizzare l’attività am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il dirigente collabora per garantire la qualità dei servi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me misurare e valutare:il ciclo di gestione della performance(art.4 e ss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Obiettivi ed indicatori:art.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Collegamento tra gli obiettivi e l’allocazione delle risorse: art.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Monitoraggio in corso di esercizio ed eventuali interventi correttivi: art.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Misurazione e valutazione della performance, organizzativa ed individuale: art. 7,8,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endicontazione dei risultati a: organi, cittadini, soggetti interessati, utenti e destinatari dei servizi:art.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Piano della performance e Relazione sulla performance (art.1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iano della performance (documento triennale) entro il 31 gennaio; contiene tutti gli elementi di cui agli articoli  3-10 (obiettivi, indicatori,risorse, metodi di misurazione e valutazione,ec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elazione sulla performance(documento annuale)entro il 30 giugno (riferimento all’anno precedente);risultati,scostamenti,ec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n caso di mancata adozione del Piano: divieto della erogazione della retribuzione di risultato ai dirigenti (art.10,comma 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Trasparenza e rendicontazione della performance (art.11 e ss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iti informatici istituzion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ccessibilità to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ati relativi agli obiettivi, alle risorse, ai risultati delle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esentazione del piano e della relazione a associazioni di consumatori o utenti, a centri di ricerca,osservatori qualificati, nell’ambito di apposite giornate della trasparenza (art.11,comma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Trasparenza tramite siti informatici istituzionali (art.11,comma 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ogramma triennale per la trasparen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iano della performance (art.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elazione sulla performance(art.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mmontare complessivo dei premi stanziati e distribu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emialità dei dirigenti e dei dipendenti (grado di differenziazion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minativi e curricula dei diversi soggetti valutato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urricula dei dirigenti e dei titolari di posizioni organizz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etribuzione dei dirigen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urricula di coloro che rivestono incarichi di indirizzo politico amministra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carichi conferiti ai dipendenti pubbli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 caso di mancata adozione del Programma triennale di trasparenza: divieto di erogazione della retribuzione di risultato ai dirigen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OME LEGGERE ED APPLICARE Il DLGS 150/2009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 LO SI LEGGE COME UN INSIEME DI ADEMPIMENTI SARA’ DIFFICILE E LABORIOSO APPLICARLO: TRA CAVILLI GIURIDICI, NECESSITA’ DI AVERE TUTTE LE COSE A POSTO, SCARICHI DI RESPONSABILITA’,ECC. SI RISCHIA DI RINVIARE IL TUTTO O DI APPLICARLO AD USO E CONSUMO DELLA BUROCRAZIA O DELLA POLITICA: INTANTO I CITTADINI ASPETTANO CON SERVIZI AMMINISTRATIVI CERTAMENTE NON DI QUALITA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Chi misura e valuta la performance (art. 12 e ss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missione nazionale  per la valutazione, la trasparenza e l’integrità delle amministrazioni pubbl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rganismi indipendenti di valutazione della performance (OIV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rgano indirizzo politico ed amministrati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rig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Organismi indipendenti di valutazione della performance (art.1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 compiti dell’Organismo sono definiti dall’art.14, comma 4:  monitoraggio, comunicazione, validazione della relazione, correttezza dei processi di valutazione, propone la valutazione dei dirigenti, obblighi sulla trasparenza, verifica dei risultati e delle buone prati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rofilo dei componenti: professionalità e esperienza nel management, nella valutazione della performance e del personale delle P.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Responsabilità dell’Organo di indirizzo politico-amministrativo (art.1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rettive generali con indirizzi strateg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finizione del Piano e della Relazione di cui all’art.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erifica del conseguimento effettivo degli obiettivi strateg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efinisce il Programma triennale per la trasparenza e l’integrità (art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ndizioni preliminari necessa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Per avviare un sistema di misurazione e valutazione delle performance sono necessarie le seguenti azion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iorganizzare l’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Razionalizzare le attivit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ttivare o ridefinire il sito informatico istituzionale secondo quanto stabilito dall’art.54 del Codice dell’Amministrazione Digitale e delle leggi 2/2009,69/2009 e dlgs 150/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Attivare un sistema di dati e metodologie trasparenti per la valutazione delle perform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Modifica dei regolamen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golamento di organizz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golamento per Organismo Indipendente Valutazione 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Regolamento di attuazione della legge 241/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ttuazione della legge 150/2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ttuazione del Codice dell’Amministrazione Digit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me valu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lla base di dati e documenti oggettivi legati ad attività veramente misurabili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Tempistica dei pian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Obiettivi legati a risorse disponibi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Razionalizzazione dei procedimenti, della modulistica, dei serviz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igitalizzazione delle attività e servizi in re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Formazione delle risorse uma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Verifica sistematica della soddisfazione degli utent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Valutazione delle risorse umane per singoli progetti ed obiettiv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IL DLGS 150/2009 : UNA OPPORTUNITA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E LO CONSIDERIAMO COME UNA OPPORTUNITA’ PER MIGLIORARE L’AZIONE AMMINISTRATIVA, LA QUALITA’ DEI SERVIZI AI CITTADINI, ALLORA SARA’ CERTAMENTE POSSIBILE APPLICARE IL DLGS 150/2009 NEL MODO MIGLIORE E PRODUTTIVO SIA PURE IN MODO GRADUALE E CON LE RISORSE DISPONIB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Organizzazione, trasparenza, merito,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Tutti termini rintracciabili in 20 anni di legislazione sulle P.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a legge 241/90 regolamenta il sistema procediment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a legge 150/2000 regolamenta il sistema di comunicazione verso l’esterno e l’interno  delle P.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Codice dell’Amministrazione Digitale definisce un  nuovo modello organizzativo che si basa sulla semplificazione e l’economicità per la qualità dei serviz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l quadro normativo di riferi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Legge 241/90 Ordinamento procedimenti amministrativ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lgs 286/99 Sistema controlli intern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Legge 150/2000 Legge comunicazione pubbl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lgs 267/2000 Testo unico Autonomie Loca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lgs 196/2003 Codice protezione dati persona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lgs 82/2005 Codice Amministrazione Digit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lgs 165/2001 Testo unico Organizzazione P.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lgs 150/2009 Ottimizzazione della produttività del lavoro pubblico e di efficienza e trasparenza delle 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Dlgs 198/2009 Class Action nella 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Efficienza,Efficacia,Economicità, Pubblicità,Trasparen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utta la normativa di riferimento (dal 1990) ha come obiettivo la creazione di condizioni che devono garantire  efficacia, economicità, pubblicità, trasparenza, semplificazione, qualità e valutazione dell’azione amministr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situazione si caratterizza per un alto tasso di formalizzazione dell’azione amministrativa ed un basso tasso di efficacia,economicità e produttiv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trasparenza è ancora una aspirazione ma non una real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burocrazia non ha ancora assimilato una cultura amministrativa moderna, in evoluzione verso modelli organizzativi funzionali e finalizzati all’utenza e verso l’amministrazione digitale, senza carta e con servizi amministrativi erogati  e fruiti in r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Finalità del dlgs 150/2009,art.1, comma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igliore organizzazione del lav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levati standard  qualitativi ed econom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centivazione della qualità della prestazione lavo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eriti e demer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roduttiv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ssente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rasparenza dell’operato delle P.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Il concetto di perfor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ermine inglese che significa “prestazione” e che nel settore del “Performance management” significa l’insieme di metodi, strumenti, dati, criteri, parametri, indicatori finalizzati a misurare e valutare le prestazioni di una organizzazione, sia complessivamente sia per settore sia per attività sia rispetto ai dirigenti sia rispetto ai dipenden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sa misurare e valutare (art.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’organizzazione nel suo compless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Singoli settori/serviz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sistema documentale pubbli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sistema procedimentale pubblic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sistema di comunicazione verso l’utenz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a dirigenz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 singoli dipenden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 servizi re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La soddisfazione degli uten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2:48:00Z</dcterms:created>
  <dc:creator>Valued Acer Customer</dc:creator>
  <dc:description/>
  <dc:language>en-US</dc:language>
  <cp:lastModifiedBy>Valued Acer Customer</cp:lastModifiedBy>
  <dcterms:modified xsi:type="dcterms:W3CDTF">2010-01-18T21:45:14Z</dcterms:modified>
  <cp:revision>29</cp:revision>
  <dc:subject/>
  <dc:title>ORGANIZZAZIONE, TRASPARENZA, MERITO: LE CONDIZIONI PER UNA AMMINISTRAZIONE DI QUALITA’</dc:title>
</cp:coreProperties>
</file>